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BE6-FCF9-4D76-A693-2F854F64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0CB-80B2-4FF6-8573-46A046B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214-FBFB-479A-9746-A8FD5735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192-E525-413F-97A2-543AE8E5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E8FE-78C2-4ECA-BEC8-8CF882A1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F67-D240-4575-865F-20517D3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26AF-0958-4E0A-BA58-823D128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2D3-E7BF-45EC-B25E-75C5008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71C-3F36-4D6C-953A-AB10E62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2BD-A79F-49BF-A7A0-0454C1E1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47B-D409-406C-AB5E-195C13E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DD1-3950-43D3-B4E5-D121786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1742-66E4-4D2D-A51B-BC5DB99B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452-543D-4571-87A9-12E4E9E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3D42-A1C9-4D6A-ACCE-C2E6EF3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7803-F5EA-4165-BD4A-FF1E266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D13-28FF-4441-8FA3-19A77EA3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3011-BC6D-43C8-9DA0-57A00C06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D2D0-0B66-48B6-9E31-4E3EB5E8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FB4F-9AA7-466F-9D8F-A31242D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4044-D4F1-456C-81F4-E2E3E34A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6D8E-819C-4CAE-92FB-B9BB2AA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AC0-A6D8-4D33-AA57-8670140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AC04-4B30-474E-8C90-87B75B4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EC6F-033F-4937-B2EB-ED31A07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1FC1-1B72-46D7-AE1C-A614566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4F2D-F148-4CEA-915E-C711B19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4250-E154-4CF3-B3E9-1530391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FEC3-3CED-4C16-B844-BA496BDB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EEB0-639B-4551-83D2-DA2C1F61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44C4-AE0B-4AD9-91C1-915C8FB9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8853-A7F6-4488-A02A-65DFBE0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80F5-0ABF-4923-8565-D8BA8B6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3CB-9338-4DAB-AD65-061938BA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E74F-4D3A-437F-B4FD-4CF7D091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97F36-8F14-4B82-8CC1-69EFDC7F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13F6-4927-4417-ACE2-53ED237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912A-7A10-471E-806D-3793EC8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8B36-1334-4A82-A016-3530658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E959-CC5C-472E-8582-D6FE88E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9591-C10A-4044-970A-3D6FC98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C97D-10C3-4E1F-847F-8284D77C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773C-0C48-44E0-94DC-B5510FB2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74AA-CC46-402D-874D-F85E2613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987-E795-408A-9635-21CFE28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F7F6-E3F5-4B2C-8DF0-22914B33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5B92-7EFD-4C4B-BD53-B1CB211A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369D-9889-43B9-AA00-44F3BF03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C34F-AD78-4B81-A20D-19080C9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EE4C-56DA-4574-9A2C-6B55EC0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77FC2-3A83-42F9-885D-38A50E0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87BB-776B-4BCB-8DB8-C9AF361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6D3B-563F-4C56-9BE5-611B655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2376-EDF7-4670-9850-F752F2F0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C7E0-7043-4BCD-8B22-8C8F52C5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C5B-E26B-4D2D-8333-A2A6A3CE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0EF4-8219-41E2-B244-30F56F7C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E6275-F917-4908-A9D3-294ED728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20FE-357C-4620-BA09-CC1945F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1102-E2FF-43F1-A398-7E9DEE3C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9989-E44A-4873-8003-FF37165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6E01-1B61-4400-8420-C4004E1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C35A-6D99-48C3-92D2-EF69AD0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C5C4-CF69-4D38-A351-BA7B105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5EFE-BBDA-43DA-952E-A7A7D80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69DF6-FD09-4451-AD34-0F54551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9D0-101D-41CC-99C2-30010DC5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6CBC3-EA45-43A9-A3EF-F7AAFBE0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534F-E649-4D9F-915F-0519981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2D32-3DE4-48B1-902E-7E007633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E126-718A-45BC-91E7-87EFDE83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8A28-12CA-4017-AE45-C7F4DA1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D724-C9EE-4CEA-AE28-F103CE5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AB24-A5D8-4BF0-945D-4361875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97EF-EA10-4A5A-AF89-9DD3472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54D3-EE81-4284-81AF-1DC0F62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9912-539F-4933-A8A0-9E8D653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8B1-A9BD-48A1-B9DD-37A1378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028F4-DEA5-4C5D-A6C8-D7897BC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EC933-53EA-4279-935F-1222B7C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34F3-DF40-4073-BA6C-851E3D9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DF40-EC43-43FA-AA60-EB0E4C17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FEBA-7274-4AF1-BB98-47130CFC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AD8-E2B2-42AE-A2E6-D203F09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7D6-BA33-4F2A-834A-5914750B13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F259-FEA0-4F68-B544-32FB5456A1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92F-FFBF-4A24-B3BE-867089C9C7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58BB-306E-4CDC-9D21-09AB25F309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5C0-6E71-4605-90A9-2135DE2E17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27D-E671-437B-AFBE-C1AF24A73A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EECB-B805-4F22-AC34-F876D7FD2D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Endocrin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283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ten called master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other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ineal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volved in circadian rhyth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yro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metabolism with thyrox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arathyroid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 in to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thyroid hormone controls calcium lev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3352680" y="2333520"/>
            <a:ext cx="3829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y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s hormones to stimulate immu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ancre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s insulin and glucag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e opposite effects on blood sugar lev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drenal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s epinephr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site of cortisol rele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4678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aries and Tes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 sex-specific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le for secondary sex characterist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intaining Homeosta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ody can respond to internal condi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ulin released when blood glucose levels are 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what is released can have a effect on the pathway that created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are feedback mechanis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e both positive and neg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(more common) feedbacks involve inhibition of pathways by end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(less common) feedbacks stimulate pathways by end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abolism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reased thyroxine levels spike metabo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, how is it releas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ered thyroxine stimulates hypothalamus to release thyrotropin-releasing hormone (TR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vels to pituitary, releases thyroid-stimulating hormone (TS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yroid releases thyrox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negative feedback comes in play when high levels of thyroxine inhibits release of both TRH and T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426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ulin and Glucag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times hormones act in opposing mechanis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ood glucose level needs to be kept at 90 mg/100m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t drops,  alpha cells of pancreas release glucag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sorbed by liver, glycogen broken down into gluco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vels go up, alpha cells shut of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rm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all that neurons have the ability to communic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this is merely cell-to-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f a signal needed to be sent to more than one cel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role of the endocri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eases chemicals into bloodstream to rest of bo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blood glucose levels are high, beta cells release insul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dy cells absorb glucose, liver synthesizes glyc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vels drop, beta cells shut of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lems in these systems lead to diabetes and hypoglycemi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termine the difference between the pathways for water-soluble and lipid-soluble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and describe an example of a positive feedback mechan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chemicals are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major classes based on chemical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be water soluble or lipid solu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can be exist as a polypeptide, steroid, or 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d by glands, they have one or two possible destina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to body surface or into body cavities (exocrin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bloodstream (endocrin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4121280" cy="32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learnthedigestivesystem.weebly.com/uploads/4/9/0/5/4905858/9712925.jpg"/>
          <p:cNvPicPr/>
          <p:nvPr/>
        </p:nvPicPr>
        <p:blipFill>
          <a:blip r:embed="rId2"/>
          <a:stretch/>
        </p:blipFill>
        <p:spPr>
          <a:xfrm>
            <a:off x="5562720" y="15238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343400"/>
            <a:ext cx="7499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hough the effects of hormones can be long lasting, they can also take a period of time to reach target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4" descr="http://ecommunity.pwsd76.ab.ca/file.php/11/moddata/resource/7104/biology_30/images/m2/b30_m2_021_l.jpg"/>
          <p:cNvPicPr/>
          <p:nvPr/>
        </p:nvPicPr>
        <p:blipFill>
          <a:blip r:embed="rId1"/>
          <a:stretch/>
        </p:blipFill>
        <p:spPr>
          <a:xfrm>
            <a:off x="1752480" y="304920"/>
            <a:ext cx="672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cal Regulat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ilar to hormones, but have no need to enter bloodstre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rget cells are nearb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crine – secreting cell is next to targ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ocrine – molecules act on secreting cell itsel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eurotransmitters and Neurohormo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920"/>
            <a:ext cx="749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ly, we have already seen secreting action through neurotransmi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hormones are a special class where the hormone is released from a neuron instead of a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2" descr="http://media-2.web.britannica.com/eb-media/24/6524-004-796DF346.gif"/>
          <p:cNvPicPr/>
          <p:nvPr/>
        </p:nvPicPr>
        <p:blipFill>
          <a:blip r:embed="rId1"/>
          <a:stretch/>
        </p:blipFill>
        <p:spPr>
          <a:xfrm>
            <a:off x="2209680" y="4114800"/>
            <a:ext cx="5667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jor Glan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0 in to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41911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rmones both used by,  and stored in, 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8769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1:58:28Z</dcterms:created>
  <dc:creator>ED18</dc:creator>
  <dc:description/>
  <dc:language>en-US</dc:language>
  <cp:lastModifiedBy>ED18</cp:lastModifiedBy>
  <dcterms:modified xsi:type="dcterms:W3CDTF">2011-05-24T10:27:02Z</dcterms:modified>
  <cp:revision>10</cp:revision>
  <dc:subject/>
  <dc:title>The Endocrine System</dc:title>
</cp:coreProperties>
</file>